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glass.wav" ContentType="audio/x-wav"/>
  <Override PartName="/ppt/media/image5.wmf" ContentType="image/x-wmf"/>
  <Override PartName="/ppt/media/caralarmoff.wav" ContentType="audio/x-wav"/>
  <Override PartName="/ppt/media/image2.wmf" ContentType="image/x-wmf"/>
  <Override PartName="/ppt/media/carpeel.wav" ContentType="audio/x-wav"/>
  <Override PartName="/ppt/media/bserie06.wav" ContentType="audio/x-wav"/>
  <Override PartName="/ppt/media/lzipup01.wav" ContentType="audio/x-wav"/>
  <Override PartName="/ppt/media/partyhorn.wav" ContentType="audio/x-wav"/>
  <Override PartName="/ppt/media/boinng04.wav" ContentType="audio/x-wav"/>
  <Override PartName="/ppt/media/fastsnaps.wav" ContentType="audio/x-wav"/>
  <Override PartName="/ppt/media/driveby.wav" ContentType="audio/x-wav"/>
  <Override PartName="/ppt/media/zipby102.wav" ContentType="audio/x-wav"/>
  <Override PartName="/ppt/media/zipup202.wav" ContentType="audio/x-wav"/>
  <Override PartName="/ppt/media/children%20big%20yeah.wav" ContentType="audio/x-wav"/>
  <Override PartName="/ppt/media/byipee04.wav" ContentType="audio/x-wav"/>
  <Override PartName="/ppt/media/image1.wmf" ContentType="image/x-wmf"/>
  <Override PartName="/ppt/media/zapvib04.wav" ContentType="audio/x-wav"/>
  <Override PartName="/ppt/media/image3.wmf" ContentType="image/x-wmf"/>
  <Override PartName="/ppt/media/zipdn102.wav" ContentType="audio/x-wav"/>
  <Override PartName="/ppt/media/image4.wmf" ContentType="image/x-wmf"/>
  <Override PartName="/ppt/media/PROJCTOR.WAV" ContentType="audio/x-wav"/>
  <Override PartName="/ppt/media/zapbig0g.wav" ContentType="audio/x-wav"/>
  <Override PartName="/ppt/media/highchime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472F-3F11-4C86-AE09-ABAC678B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B957-63E2-4C93-AA9A-02FD0DB0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77B-1B04-44F9-B893-94EC3D62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CC8-4BED-4B43-9072-2265EC9C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E64-8B50-4CF8-BFD9-51E8B126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F37-0A36-4987-8DE2-AB3BFFAA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318-B5F7-4B88-BE0D-1C39223D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289-8552-479D-A4F3-A7C84A16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863-A4BB-4D46-8BAB-99F5B1E3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2305-35B4-4511-AF4C-39926E8D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B7B-D1C1-48A6-A80D-CB854B31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FE4-8FC7-4C66-868C-7D769B81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2A9C-E3CD-417A-8A80-4C01671FE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zipdn102.wav"/><Relationship Id="rId4" Type="http://schemas.openxmlformats.org/officeDocument/2006/relationships/audio" Target="../media/PROJCTOR.WAV"/><Relationship Id="rId5" Type="http://schemas.openxmlformats.org/officeDocument/2006/relationships/audio" Target="../media/highchime.wav"/><Relationship Id="rId6" Type="http://schemas.openxmlformats.org/officeDocument/2006/relationships/audio" Target="../media/partyhorn.wav"/><Relationship Id="rId7" Type="http://schemas.openxmlformats.org/officeDocument/2006/relationships/audio" Target="../media/partyhorn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bserie06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camera.wav"/><Relationship Id="rId4" Type="http://schemas.openxmlformats.org/officeDocument/2006/relationships/audio" Target="../media/zapbig0g.wav"/><Relationship Id="rId5" Type="http://schemas.openxmlformats.org/officeDocument/2006/relationships/audio" Target="../media/glass.wav"/><Relationship Id="rId6" Type="http://schemas.openxmlformats.org/officeDocument/2006/relationships/audio" Target="../media/carpeel.wav"/><Relationship Id="rId7" Type="http://schemas.openxmlformats.org/officeDocument/2006/relationships/audio" Target="../media/boinng04.wav"/><Relationship Id="rId8" Type="http://schemas.openxmlformats.org/officeDocument/2006/relationships/audio" Target="../media/boinng04.wav"/><Relationship Id="rId9" Type="http://schemas.openxmlformats.org/officeDocument/2006/relationships/audio" Target="../media/boinng04.wav"/><Relationship Id="rId10" Type="http://schemas.openxmlformats.org/officeDocument/2006/relationships/audio" Target="../media/caralarmoff.wav"/><Relationship Id="rId11" Type="http://schemas.openxmlformats.org/officeDocument/2006/relationships/audio" Target="../media/caralarmoff.wav"/><Relationship Id="rId12" Type="http://schemas.openxmlformats.org/officeDocument/2006/relationships/audio" Target="../media/children%20big%20yeah.wav"/><Relationship Id="rId13" Type="http://schemas.openxmlformats.org/officeDocument/2006/relationships/audio" Target="../media/byipee04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glass.wav"/><Relationship Id="rId4" Type="http://schemas.openxmlformats.org/officeDocument/2006/relationships/audio" Target="../media/carpeel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oinng04.wav"/><Relationship Id="rId8" Type="http://schemas.openxmlformats.org/officeDocument/2006/relationships/audio" Target="../media/caralarmoff.wav"/><Relationship Id="rId9" Type="http://schemas.openxmlformats.org/officeDocument/2006/relationships/audio" Target="../media/caralarmoff.wav"/><Relationship Id="rId10" Type="http://schemas.openxmlformats.org/officeDocument/2006/relationships/audio" Target="../media/children%20big%20yeah.wav"/><Relationship Id="rId11" Type="http://schemas.openxmlformats.org/officeDocument/2006/relationships/audio" Target="../media/byipee04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glass.wav"/><Relationship Id="rId4" Type="http://schemas.openxmlformats.org/officeDocument/2006/relationships/audio" Target="../media/carpeel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oinng04.wav"/><Relationship Id="rId8" Type="http://schemas.openxmlformats.org/officeDocument/2006/relationships/audio" Target="../media/caralarmoff.wav"/><Relationship Id="rId9" Type="http://schemas.openxmlformats.org/officeDocument/2006/relationships/audio" Target="../media/caralarmoff.wav"/><Relationship Id="rId10" Type="http://schemas.openxmlformats.org/officeDocument/2006/relationships/audio" Target="../media/children%20big%20yeah.wav"/><Relationship Id="rId11" Type="http://schemas.openxmlformats.org/officeDocument/2006/relationships/audio" Target="../media/byipee04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glass.wav"/><Relationship Id="rId4" Type="http://schemas.openxmlformats.org/officeDocument/2006/relationships/audio" Target="../media/carpeel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oinng04.wav"/><Relationship Id="rId8" Type="http://schemas.openxmlformats.org/officeDocument/2006/relationships/audio" Target="../media/caralarmoff.wav"/><Relationship Id="rId9" Type="http://schemas.openxmlformats.org/officeDocument/2006/relationships/audio" Target="../media/caralarmoff.wav"/><Relationship Id="rId10" Type="http://schemas.openxmlformats.org/officeDocument/2006/relationships/audio" Target="../media/children%20big%20yeah.wav"/><Relationship Id="rId11" Type="http://schemas.openxmlformats.org/officeDocument/2006/relationships/audio" Target="../media/byipee04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glass.wav"/><Relationship Id="rId4" Type="http://schemas.openxmlformats.org/officeDocument/2006/relationships/audio" Target="../media/carpeel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oinng04.wav"/><Relationship Id="rId8" Type="http://schemas.openxmlformats.org/officeDocument/2006/relationships/audio" Target="../media/caralarmoff.wav"/><Relationship Id="rId9" Type="http://schemas.openxmlformats.org/officeDocument/2006/relationships/audio" Target="../media/caralarmoff.wav"/><Relationship Id="rId10" Type="http://schemas.openxmlformats.org/officeDocument/2006/relationships/audio" Target="../media/children%20big%20yeah.wav"/><Relationship Id="rId11" Type="http://schemas.openxmlformats.org/officeDocument/2006/relationships/audio" Target="../media/byipee04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glass.wav"/><Relationship Id="rId4" Type="http://schemas.openxmlformats.org/officeDocument/2006/relationships/audio" Target="../media/carpeel.wav"/><Relationship Id="rId5" Type="http://schemas.openxmlformats.org/officeDocument/2006/relationships/audio" Target="../media/boinng04.wav"/><Relationship Id="rId6" Type="http://schemas.openxmlformats.org/officeDocument/2006/relationships/audio" Target="../media/boinng04.wav"/><Relationship Id="rId7" Type="http://schemas.openxmlformats.org/officeDocument/2006/relationships/audio" Target="../media/boinng04.wav"/><Relationship Id="rId8" Type="http://schemas.openxmlformats.org/officeDocument/2006/relationships/audio" Target="../media/caralarmoff.wav"/><Relationship Id="rId9" Type="http://schemas.openxmlformats.org/officeDocument/2006/relationships/audio" Target="../media/caralarmoff.wav"/><Relationship Id="rId10" Type="http://schemas.openxmlformats.org/officeDocument/2006/relationships/audio" Target="../media/children%20big%20yeah.wav"/><Relationship Id="rId11" Type="http://schemas.openxmlformats.org/officeDocument/2006/relationships/audio" Target="../media/byipee04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audio" Target="../media/zipup202.wav"/><Relationship Id="rId6" Type="http://schemas.openxmlformats.org/officeDocument/2006/relationships/audio" Target="../media/highchime.wav"/><Relationship Id="rId7" Type="http://schemas.openxmlformats.org/officeDocument/2006/relationships/audio" Target="../media/zipby102.wav"/><Relationship Id="rId8" Type="http://schemas.openxmlformats.org/officeDocument/2006/relationships/audio" Target="../media/highchime.wav"/><Relationship Id="rId9" Type="http://schemas.openxmlformats.org/officeDocument/2006/relationships/audio" Target="../media/zapvib04.wav"/><Relationship Id="rId10" Type="http://schemas.openxmlformats.org/officeDocument/2006/relationships/audio" Target="../media/fastsnaps.wav"/><Relationship Id="rId11" Type="http://schemas.openxmlformats.org/officeDocument/2006/relationships/audio" Target="../media/fastsnaps.wav"/><Relationship Id="rId12" Type="http://schemas.openxmlformats.org/officeDocument/2006/relationships/audio" Target="../media/driveby.wav"/><Relationship Id="rId13" Type="http://schemas.openxmlformats.org/officeDocument/2006/relationships/audio" Target="../media/glass.wav"/><Relationship Id="rId14" Type="http://schemas.openxmlformats.org/officeDocument/2006/relationships/audio" Target="../media/zipdn102.wav"/><Relationship Id="rId15" Type="http://schemas.openxmlformats.org/officeDocument/2006/relationships/audio" Target="../media/boinng04.wav"/><Relationship Id="rId16" Type="http://schemas.openxmlformats.org/officeDocument/2006/relationships/audio" Target="../media/boinng04.wav"/><Relationship Id="rId17" Type="http://schemas.openxmlformats.org/officeDocument/2006/relationships/audio" Target="../media/boinng04.wav"/><Relationship Id="rId18" Type="http://schemas.openxmlformats.org/officeDocument/2006/relationships/audio" Target="../media/caralarmoff.wav"/><Relationship Id="rId19" Type="http://schemas.openxmlformats.org/officeDocument/2006/relationships/audio" Target="../media/caralarmoff.wav"/><Relationship Id="rId20" Type="http://schemas.openxmlformats.org/officeDocument/2006/relationships/audio" Target="../media/children%20big%20yeah.wav"/><Relationship Id="rId21" Type="http://schemas.openxmlformats.org/officeDocument/2006/relationships/audio" Target="../media/byipee04.wav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highchime.wav"/><Relationship Id="rId3" Type="http://schemas.openxmlformats.org/officeDocument/2006/relationships/audio" Target="../media/lzipup01.wav"/><Relationship Id="rId4" Type="http://schemas.openxmlformats.org/officeDocument/2006/relationships/audio" Target="../media/highchime.wav"/><Relationship Id="rId5" Type="http://schemas.openxmlformats.org/officeDocument/2006/relationships/audio" Target="../media/zapbig0g.wav"/><Relationship Id="rId6" Type="http://schemas.openxmlformats.org/officeDocument/2006/relationships/audio" Target="../media/children%20big%20yeah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676520"/>
            <a:ext cx="8686800" cy="48736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Discrimi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676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iscriminant is the expression under the radic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228840" y="2114640"/>
          <a:ext cx="235908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8840" y="2114640"/>
                    <a:ext cx="235908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500040" y="291456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t is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Positive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8640" y="3378240"/>
            <a:ext cx="256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there are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98320" y="4344840"/>
            <a:ext cx="2211480" cy="2117520"/>
            <a:chOff x="598320" y="4344840"/>
            <a:chExt cx="2211480" cy="2117520"/>
          </a:xfrm>
        </p:grpSpPr>
        <p:grpSp>
          <p:nvGrpSpPr>
            <p:cNvPr id="50" name=""/>
            <p:cNvGrpSpPr/>
            <p:nvPr/>
          </p:nvGrpSpPr>
          <p:grpSpPr>
            <a:xfrm>
              <a:off x="598320" y="4442760"/>
              <a:ext cx="2211480" cy="2019600"/>
              <a:chOff x="598320" y="4442760"/>
              <a:chExt cx="2211480" cy="201960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687960" y="4486320"/>
                <a:ext cx="2019600" cy="1929960"/>
                <a:chOff x="687960" y="4486320"/>
                <a:chExt cx="2019600" cy="19299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1136520" y="4486320"/>
                  <a:ext cx="224280" cy="1929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585440" y="4486320"/>
                  <a:ext cx="223920" cy="1929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2034360" y="4486320"/>
                  <a:ext cx="224280" cy="1929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482920" y="4486320"/>
                  <a:ext cx="224280" cy="1929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87960" y="4486320"/>
                  <a:ext cx="224280" cy="1929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687960" y="4486320"/>
                  <a:ext cx="2019600" cy="21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87960" y="4700520"/>
                  <a:ext cx="2019600" cy="21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687960" y="4915080"/>
                  <a:ext cx="2019600" cy="21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687960" y="5129640"/>
                  <a:ext cx="2019600" cy="21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87960" y="5344200"/>
                  <a:ext cx="2019600" cy="21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687960" y="5558400"/>
                  <a:ext cx="2019600" cy="21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87960" y="5772960"/>
                  <a:ext cx="2019600" cy="21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87960" y="5987520"/>
                  <a:ext cx="2019600" cy="21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87960" y="6201720"/>
                  <a:ext cx="2019600" cy="214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 flipV="1">
                <a:off x="2267280" y="4442760"/>
                <a:ext cx="0" cy="20196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98320" y="5771160"/>
                <a:ext cx="2211480" cy="720"/>
              </a:xfrm>
              <a:custGeom>
                <a:avLst/>
                <a:gdLst/>
                <a:ahLst/>
                <a:rect l="l" t="t" r="r" b="b"/>
                <a:pathLst>
                  <a:path w="2365" h="1">
                    <a:moveTo>
                      <a:pt x="0" y="0"/>
                    </a:moveTo>
                    <a:lnTo>
                      <a:pt x="2365" y="0"/>
                    </a:ln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2087640" y="5975280"/>
              <a:ext cx="8964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47360" y="5990400"/>
              <a:ext cx="8964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84600" y="6202800"/>
              <a:ext cx="8964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22720" y="5343120"/>
              <a:ext cx="8964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5240" y="5331240"/>
              <a:ext cx="8964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91960" y="4344840"/>
              <a:ext cx="8964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54560" y="4354920"/>
              <a:ext cx="8964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30480" y="4385880"/>
              <a:ext cx="1375200" cy="1868040"/>
            </a:xfrm>
            <a:custGeom>
              <a:avLst/>
              <a:gdLst/>
              <a:ahLst/>
              <a:rect l="l" t="t" r="r" b="b"/>
              <a:pathLst>
                <a:path w="1471" h="1998">
                  <a:moveTo>
                    <a:pt x="0" y="0"/>
                  </a:moveTo>
                  <a:cubicBezTo>
                    <a:pt x="88" y="386"/>
                    <a:pt x="176" y="773"/>
                    <a:pt x="258" y="1067"/>
                  </a:cubicBezTo>
                  <a:cubicBezTo>
                    <a:pt x="340" y="1361"/>
                    <a:pt x="407" y="1610"/>
                    <a:pt x="491" y="1765"/>
                  </a:cubicBezTo>
                  <a:cubicBezTo>
                    <a:pt x="575" y="1920"/>
                    <a:pt x="680" y="1998"/>
                    <a:pt x="760" y="1998"/>
                  </a:cubicBezTo>
                  <a:cubicBezTo>
                    <a:pt x="840" y="1998"/>
                    <a:pt x="891" y="1922"/>
                    <a:pt x="969" y="1765"/>
                  </a:cubicBezTo>
                  <a:cubicBezTo>
                    <a:pt x="1047" y="1608"/>
                    <a:pt x="1142" y="1346"/>
                    <a:pt x="1226" y="1054"/>
                  </a:cubicBezTo>
                  <a:cubicBezTo>
                    <a:pt x="1310" y="762"/>
                    <a:pt x="1430" y="187"/>
                    <a:pt x="1471" y="1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333600" y="2927520"/>
            <a:ext cx="25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t is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Zero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90760" y="3390840"/>
            <a:ext cx="256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there is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On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2948040"/>
            <a:ext cx="27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t is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Negative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48440" y="3390840"/>
            <a:ext cx="25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there is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No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576600" y="4311720"/>
            <a:ext cx="2246400" cy="2129760"/>
            <a:chOff x="3576600" y="4311720"/>
            <a:chExt cx="2246400" cy="2129760"/>
          </a:xfrm>
        </p:grpSpPr>
        <p:grpSp>
          <p:nvGrpSpPr>
            <p:cNvPr id="81" name=""/>
            <p:cNvGrpSpPr/>
            <p:nvPr/>
          </p:nvGrpSpPr>
          <p:grpSpPr>
            <a:xfrm>
              <a:off x="3576600" y="4442400"/>
              <a:ext cx="2246400" cy="1999080"/>
              <a:chOff x="3576600" y="4442400"/>
              <a:chExt cx="2246400" cy="199908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3643920" y="4498200"/>
                <a:ext cx="2051640" cy="1910160"/>
                <a:chOff x="3643920" y="4498200"/>
                <a:chExt cx="2051640" cy="19101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099680" y="4498200"/>
                  <a:ext cx="227880" cy="1910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555800" y="4498200"/>
                  <a:ext cx="227520" cy="1910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011560" y="4498200"/>
                  <a:ext cx="227880" cy="1910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467320" y="4498200"/>
                  <a:ext cx="227880" cy="1910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643920" y="4498200"/>
                  <a:ext cx="227880" cy="1910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643920" y="4498200"/>
                  <a:ext cx="2051640" cy="21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643920" y="4710240"/>
                  <a:ext cx="2051640" cy="21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643920" y="4922280"/>
                  <a:ext cx="2051640" cy="21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643920" y="5134680"/>
                  <a:ext cx="2051640" cy="21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43920" y="5347080"/>
                  <a:ext cx="2051640" cy="21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643920" y="5559120"/>
                  <a:ext cx="2051640" cy="21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643920" y="5771520"/>
                  <a:ext cx="2051640" cy="21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643920" y="5983920"/>
                  <a:ext cx="2051640" cy="21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643920" y="6195960"/>
                  <a:ext cx="2051640" cy="21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 flipV="1">
                <a:off x="4794120" y="4442400"/>
                <a:ext cx="0" cy="19990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576600" y="6189120"/>
                <a:ext cx="2246400" cy="720"/>
              </a:xfrm>
              <a:custGeom>
                <a:avLst/>
                <a:gdLst/>
                <a:ahLst/>
                <a:rect l="l" t="t" r="r" b="b"/>
                <a:pathLst>
                  <a:path w="2365" h="1">
                    <a:moveTo>
                      <a:pt x="0" y="0"/>
                    </a:moveTo>
                    <a:lnTo>
                      <a:pt x="2365" y="0"/>
                    </a:ln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727520" y="5925960"/>
              <a:ext cx="91080" cy="88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68880" y="5940360"/>
              <a:ext cx="91080" cy="88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10080" y="6150600"/>
              <a:ext cx="91080" cy="88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1000" y="5300280"/>
              <a:ext cx="91080" cy="88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57560" y="5288040"/>
              <a:ext cx="91080" cy="88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6280" y="4311720"/>
              <a:ext cx="91080" cy="88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90120" y="4321800"/>
              <a:ext cx="91080" cy="88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45160" y="4352400"/>
              <a:ext cx="1397160" cy="1849320"/>
            </a:xfrm>
            <a:custGeom>
              <a:avLst/>
              <a:gdLst/>
              <a:ahLst/>
              <a:rect l="l" t="t" r="r" b="b"/>
              <a:pathLst>
                <a:path w="1471" h="1998">
                  <a:moveTo>
                    <a:pt x="0" y="0"/>
                  </a:moveTo>
                  <a:cubicBezTo>
                    <a:pt x="88" y="386"/>
                    <a:pt x="176" y="773"/>
                    <a:pt x="258" y="1067"/>
                  </a:cubicBezTo>
                  <a:cubicBezTo>
                    <a:pt x="340" y="1361"/>
                    <a:pt x="407" y="1610"/>
                    <a:pt x="491" y="1765"/>
                  </a:cubicBezTo>
                  <a:cubicBezTo>
                    <a:pt x="575" y="1920"/>
                    <a:pt x="680" y="1998"/>
                    <a:pt x="760" y="1998"/>
                  </a:cubicBezTo>
                  <a:cubicBezTo>
                    <a:pt x="840" y="1998"/>
                    <a:pt x="891" y="1922"/>
                    <a:pt x="969" y="1765"/>
                  </a:cubicBezTo>
                  <a:cubicBezTo>
                    <a:pt x="1047" y="1608"/>
                    <a:pt x="1142" y="1346"/>
                    <a:pt x="1226" y="1054"/>
                  </a:cubicBezTo>
                  <a:cubicBezTo>
                    <a:pt x="1310" y="762"/>
                    <a:pt x="1430" y="187"/>
                    <a:pt x="1471" y="1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458040" y="4367160"/>
            <a:ext cx="2219400" cy="2072880"/>
            <a:chOff x="6458040" y="4367160"/>
            <a:chExt cx="2219400" cy="2072880"/>
          </a:xfrm>
        </p:grpSpPr>
        <p:grpSp>
          <p:nvGrpSpPr>
            <p:cNvPr id="108" name=""/>
            <p:cNvGrpSpPr/>
            <p:nvPr/>
          </p:nvGrpSpPr>
          <p:grpSpPr>
            <a:xfrm>
              <a:off x="6524640" y="4470120"/>
              <a:ext cx="2026800" cy="1936440"/>
              <a:chOff x="6524640" y="4470120"/>
              <a:chExt cx="2026800" cy="1936440"/>
            </a:xfrm>
          </p:grpSpPr>
          <p:sp>
            <p:nvSpPr>
              <p:cNvPr id="109" name=""/>
              <p:cNvSpPr/>
              <p:nvPr/>
            </p:nvSpPr>
            <p:spPr>
              <a:xfrm>
                <a:off x="6974640" y="4470120"/>
                <a:ext cx="225000" cy="1936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425360" y="4470120"/>
                <a:ext cx="225000" cy="1936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875720" y="4470120"/>
                <a:ext cx="225000" cy="1936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326080" y="4470120"/>
                <a:ext cx="225000" cy="1936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24640" y="4470120"/>
                <a:ext cx="225000" cy="1936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24640" y="4470120"/>
                <a:ext cx="202680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24640" y="4685040"/>
                <a:ext cx="202680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24640" y="4900320"/>
                <a:ext cx="202680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24640" y="5115600"/>
                <a:ext cx="202680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524640" y="5330880"/>
                <a:ext cx="202680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524640" y="5545800"/>
                <a:ext cx="202680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524640" y="5761080"/>
                <a:ext cx="202680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524640" y="5976360"/>
                <a:ext cx="202680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524640" y="6191280"/>
                <a:ext cx="2026800" cy="21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flipV="1">
              <a:off x="7660800" y="4413600"/>
              <a:ext cx="0" cy="2026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58040" y="6184080"/>
              <a:ext cx="2219400" cy="72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95280" y="5709600"/>
              <a:ext cx="9000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42040" y="5724720"/>
              <a:ext cx="9000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0360" y="5937480"/>
              <a:ext cx="9000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16680" y="5075280"/>
              <a:ext cx="90000" cy="900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22440" y="5063040"/>
              <a:ext cx="90000" cy="89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68360" y="4367160"/>
              <a:ext cx="1265760" cy="1621800"/>
            </a:xfrm>
            <a:custGeom>
              <a:avLst/>
              <a:gdLst/>
              <a:ahLst/>
              <a:rect l="l" t="t" r="r" b="b"/>
              <a:pathLst>
                <a:path w="1471" h="1998">
                  <a:moveTo>
                    <a:pt x="0" y="0"/>
                  </a:moveTo>
                  <a:cubicBezTo>
                    <a:pt x="88" y="386"/>
                    <a:pt x="176" y="773"/>
                    <a:pt x="258" y="1067"/>
                  </a:cubicBezTo>
                  <a:cubicBezTo>
                    <a:pt x="340" y="1361"/>
                    <a:pt x="407" y="1610"/>
                    <a:pt x="491" y="1765"/>
                  </a:cubicBezTo>
                  <a:cubicBezTo>
                    <a:pt x="575" y="1920"/>
                    <a:pt x="680" y="1998"/>
                    <a:pt x="760" y="1998"/>
                  </a:cubicBezTo>
                  <a:cubicBezTo>
                    <a:pt x="840" y="1998"/>
                    <a:pt x="891" y="1922"/>
                    <a:pt x="969" y="1765"/>
                  </a:cubicBezTo>
                  <a:cubicBezTo>
                    <a:pt x="1047" y="1608"/>
                    <a:pt x="1142" y="1346"/>
                    <a:pt x="1226" y="1054"/>
                  </a:cubicBezTo>
                  <a:cubicBezTo>
                    <a:pt x="1310" y="762"/>
                    <a:pt x="1430" y="187"/>
                    <a:pt x="1471" y="1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811160" y="2789280"/>
          <a:ext cx="518004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2789280"/>
                    <a:ext cx="51800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ing the Number of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36840" y="2155680"/>
                <a:ext cx="4476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060640" y="3859200"/>
                <a:ext cx="11206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33280" y="113364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if the equation has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o solutions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 solution,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 solution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52560" y="3022560"/>
                <a:ext cx="12826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232160" y="3051000"/>
                <a:ext cx="374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672160" y="3033720"/>
                <a:ext cx="765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097080" y="3809880"/>
                <a:ext cx="1625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032280" y="4524480"/>
                <a:ext cx="6300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 txBox="1"/>
          <p:nvPr/>
        </p:nvSpPr>
        <p:spPr>
          <a:xfrm>
            <a:off x="2174760" y="5089680"/>
            <a:ext cx="30225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33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ne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33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pe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811160" y="2789280"/>
          <a:ext cx="518004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2789280"/>
                    <a:ext cx="51800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ing the Number of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87400" y="2155680"/>
                <a:ext cx="39751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598840" y="3865680"/>
                <a:ext cx="3920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233280" y="113364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if the equation has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o solutions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 solution,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 solution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317600" y="3003480"/>
                <a:ext cx="982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152960" y="3051000"/>
                <a:ext cx="5349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672160" y="3057480"/>
                <a:ext cx="765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917800" y="3868560"/>
                <a:ext cx="1009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063960" y="4524480"/>
                <a:ext cx="5666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 txBox="1"/>
          <p:nvPr/>
        </p:nvSpPr>
        <p:spPr>
          <a:xfrm>
            <a:off x="2174760" y="5089680"/>
            <a:ext cx="30225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33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wo Solution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33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pe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811160" y="2789280"/>
          <a:ext cx="518004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2789280"/>
                    <a:ext cx="51800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ing the Number of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743120" y="2155680"/>
                <a:ext cx="40654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516040" y="3865680"/>
                <a:ext cx="559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233280" y="113364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if the equation has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o solutions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 solution,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 solution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62040" y="3041640"/>
                <a:ext cx="7272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232160" y="3051000"/>
                <a:ext cx="374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815080" y="3057480"/>
                <a:ext cx="477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954160" y="3868560"/>
                <a:ext cx="12891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622600" y="4554360"/>
                <a:ext cx="14493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 txBox="1"/>
          <p:nvPr/>
        </p:nvSpPr>
        <p:spPr>
          <a:xfrm>
            <a:off x="2174760" y="5186520"/>
            <a:ext cx="30225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33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33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pe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811160" y="2789280"/>
          <a:ext cx="518004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2789280"/>
                    <a:ext cx="51800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ing the Number of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60600" y="2155680"/>
                <a:ext cx="44305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200320" y="3838680"/>
                <a:ext cx="8380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233280" y="113364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if the equation has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o solutions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 solution,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 solution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582560" y="3041640"/>
                <a:ext cx="6843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92400" y="3051000"/>
                <a:ext cx="8557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624640" y="3033720"/>
                <a:ext cx="8604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908440" y="3848040"/>
                <a:ext cx="1344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32280" y="4524480"/>
                <a:ext cx="6300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 txBox="1"/>
          <p:nvPr/>
        </p:nvSpPr>
        <p:spPr>
          <a:xfrm>
            <a:off x="2174760" y="5186520"/>
            <a:ext cx="30225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33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ne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33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pe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811160" y="2789280"/>
          <a:ext cx="518004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2789280"/>
                    <a:ext cx="51800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ing the Number of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424160" y="2155680"/>
                <a:ext cx="4703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171880" y="3838680"/>
                <a:ext cx="8953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33280" y="113364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if the equation has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o solutions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 solution,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 solution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95560" y="3021120"/>
                <a:ext cx="10681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938760" y="3051000"/>
                <a:ext cx="9633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624640" y="3057480"/>
                <a:ext cx="8604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908440" y="3848040"/>
                <a:ext cx="1344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779560" y="4524480"/>
                <a:ext cx="11350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 txBox="1"/>
          <p:nvPr/>
        </p:nvSpPr>
        <p:spPr>
          <a:xfrm>
            <a:off x="2174760" y="5186520"/>
            <a:ext cx="30225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33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33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pe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1811160" y="2789280"/>
          <a:ext cx="518004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2789280"/>
                    <a:ext cx="51800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ing the Number of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514520" y="2155680"/>
                <a:ext cx="4521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338560" y="3865680"/>
                <a:ext cx="560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33280" y="1133640"/>
            <a:ext cx="891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if the equation has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wo solutions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 solution,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no solution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521000" y="3040200"/>
                <a:ext cx="7268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179960" y="3027240"/>
                <a:ext cx="48096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505480" y="3033720"/>
                <a:ext cx="1100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827440" y="3848040"/>
                <a:ext cx="16239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717640" y="4524480"/>
                <a:ext cx="12607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 txBox="1"/>
          <p:nvPr/>
        </p:nvSpPr>
        <p:spPr>
          <a:xfrm>
            <a:off x="2174760" y="5186520"/>
            <a:ext cx="30225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33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wo Solution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33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pe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the Discriminant in a Real-Lif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18116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You work as an accountant for a sporting goods company. You have been asked to project the revenue of the company. The revenue of the company from 1990 to 1995 can be model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278000" y="2797200"/>
          <a:ext cx="5790960" cy="7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8000" y="2797200"/>
                    <a:ext cx="57909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901800" y="2979720"/>
          <a:ext cx="10224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2979720"/>
                    <a:ext cx="1022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228600" y="34750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is the revenue in millions of dollars and 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is the number of years since 1990.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Use the discriminant to show that the revenue for the company will reach $150 mill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31640" y="3443400"/>
                <a:ext cx="14590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643720" y="3408480"/>
                <a:ext cx="148716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855720" y="4086360"/>
            <a:ext cx="6108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039680" y="3959280"/>
                <a:ext cx="62150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77960" y="4657680"/>
                <a:ext cx="68421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608120" y="5487840"/>
                <a:ext cx="206856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081080" y="4805280"/>
                <a:ext cx="14097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043520" y="4811760"/>
                <a:ext cx="12301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521320" y="4797360"/>
                <a:ext cx="1814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646440" y="5459400"/>
                <a:ext cx="2522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9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389320" y="6076800"/>
                <a:ext cx="2754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8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6245280" y="5791320"/>
            <a:ext cx="28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It will reach $150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22440" y="2382840"/>
            <a:ext cx="7997760" cy="5330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654960" y="3990960"/>
            <a:ext cx="479160" cy="426960"/>
          </a:xfrm>
          <a:prstGeom prst="ellipse">
            <a:avLst/>
          </a:prstGeom>
          <a:solidFill>
            <a:srgbClr val="ffffcc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ing a Vertical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11811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. Use a graphing calculator to find how many years it will take for the revenue to reach $90 mill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598760" y="1928880"/>
                <a:ext cx="50972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38640" y="4775040"/>
                <a:ext cx="37101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out 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 year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ldren%20big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melinda.walden</cp:lastModifiedBy>
  <dcterms:modified xsi:type="dcterms:W3CDTF">2003-05-29T15:05:13Z</dcterms:modified>
  <cp:revision>43</cp:revision>
  <dc:subject/>
  <dc:title>No Slide Title</dc:title>
</cp:coreProperties>
</file>